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37EE-CDB1-4BFF-8896-9032B61B5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B6DD-3805-459B-93EA-7789E8A3B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5BDC-AA72-480B-B199-04AEFD982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0D99-42C2-429D-88A2-0188CAEBA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5D38-9319-45A5-A7C1-EB9E78B0EA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4FC7-8DAD-446B-B62D-2BF996617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5B6D-1D4E-457F-8C78-AC0484F2B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3E29-E139-4C42-8210-73A2179B0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6FDE-4D4B-4B11-9137-BBB05D172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EDEB-2B8F-40B4-AE09-F0503719F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7FCD-9116-4248-9C37-A6EAEE026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F4FD-84D4-422A-BE24-8C175D953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70536-3B04-408E-96D5-24FB6CCC0466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71640" y="1989000"/>
            <a:ext cx="7200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REVISÃO DOS BENEFÍCIOS POR INCAPACIDADE DE LONGA DUR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MP nº 767/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264360" y="126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Arial"/>
                <a:ea typeface="Arial"/>
              </a:rPr>
              <a:t>Fevereiro/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647280" y="593424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82760" y="2220840"/>
          <a:ext cx="8232480" cy="3467160"/>
        </p:xfrm>
        <a:graphic>
          <a:graphicData uri="http://schemas.openxmlformats.org/drawingml/2006/table">
            <a:tbl>
              <a:tblPr/>
              <a:tblGrid>
                <a:gridCol w="1060200"/>
                <a:gridCol w="1177920"/>
                <a:gridCol w="1341360"/>
                <a:gridCol w="1287720"/>
                <a:gridCol w="1457280"/>
                <a:gridCol w="1908000"/>
              </a:tblGrid>
              <a:tr h="674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 SEM PERÍCIA em relação à população total da 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3.5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 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7.9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8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.7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.9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8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71600" y="2371680"/>
          <a:ext cx="8210520" cy="3597480"/>
        </p:xfrm>
        <a:graphic>
          <a:graphicData uri="http://schemas.openxmlformats.org/drawingml/2006/table">
            <a:tbl>
              <a:tblPr/>
              <a:tblGrid>
                <a:gridCol w="1368360"/>
                <a:gridCol w="3457440"/>
                <a:gridCol w="3384720"/>
              </a:tblGrid>
              <a:tr h="1015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ração do Benefí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4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.3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 9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.2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a 15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.7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de 15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7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7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30200" y="2573280"/>
          <a:ext cx="8172360" cy="2382840"/>
        </p:xfrm>
        <a:graphic>
          <a:graphicData uri="http://schemas.openxmlformats.org/drawingml/2006/table">
            <a:tbl>
              <a:tblPr/>
              <a:tblGrid>
                <a:gridCol w="1546200"/>
                <a:gridCol w="2448000"/>
                <a:gridCol w="2089080"/>
                <a:gridCol w="2089080"/>
              </a:tblGrid>
              <a:tr h="833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Benefício / Ano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3x valor R$ JAN/17)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Benefícios  / Ano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3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ílio-Doenç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.794.218.343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0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8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4.948.233.85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9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4.742.452.199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22"/>
          <p:cNvSpPr/>
          <p:nvPr/>
        </p:nvSpPr>
        <p:spPr>
          <a:xfrm>
            <a:off x="431640" y="5111640"/>
            <a:ext cx="82296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¹ o valor mínimo dos benefícios pagos pelo INSS – aposentadorias, auxílio-doença, pensão por morte –, das aposentadorias dos aeronautas e das pensões especiais pagas às vítimas da síndrome da talidomida será de R$ 937,00. Os segurados da Previdência Social que recebem acima do salário mínimo terão o benefício reajustado em 6,58%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43520" y="5478480"/>
            <a:ext cx="474048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Valor Médio por Benefício/Mê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1.421  para Auxílio-Doenç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1.632  para Aposentadoria por Invalid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71640" y="125244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AUXÍLIO-DOENÇ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38120" y="2279520"/>
          <a:ext cx="8231040" cy="3422880"/>
        </p:xfrm>
        <a:graphic>
          <a:graphicData uri="http://schemas.openxmlformats.org/drawingml/2006/table">
            <a:tbl>
              <a:tblPr/>
              <a:tblGrid>
                <a:gridCol w="1135080"/>
                <a:gridCol w="1114560"/>
                <a:gridCol w="1272960"/>
                <a:gridCol w="1287720"/>
                <a:gridCol w="1547640"/>
                <a:gridCol w="1873080"/>
              </a:tblGrid>
              <a:tr h="82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dddddd"/>
                      </a:solidFill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SEM PERÍCIA em relação à população total da 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720">
                      <a:solidFill>
                        <a:srgbClr val="dddddd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5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5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8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.4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62"/>
          <p:cNvSpPr/>
          <p:nvPr/>
        </p:nvSpPr>
        <p:spPr>
          <a:xfrm>
            <a:off x="360000" y="575928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71640" y="125244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APOSENTADORIAS POR INVALIDE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382320" y="607860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77720" y="2359080"/>
          <a:ext cx="8229600" cy="3508200"/>
        </p:xfrm>
        <a:graphic>
          <a:graphicData uri="http://schemas.openxmlformats.org/drawingml/2006/table">
            <a:tbl>
              <a:tblPr/>
              <a:tblGrid>
                <a:gridCol w="1074960"/>
                <a:gridCol w="1146240"/>
                <a:gridCol w="1433520"/>
                <a:gridCol w="1326960"/>
                <a:gridCol w="1468440"/>
                <a:gridCol w="1779480"/>
              </a:tblGrid>
              <a:tr h="90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Estimativa IBGE 201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</a:t>
                      </a: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Estimativa IBGE 201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SEM PERÍCIA em relação à população total da regi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.0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4.0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4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3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2"/>
          <p:cNvSpPr/>
          <p:nvPr/>
        </p:nvSpPr>
        <p:spPr>
          <a:xfrm>
            <a:off x="1428840" y="2637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operacionalização do programa BILD (MP 767) está sendo realizada seguindo um fluxo linear que se inicia com a análise da capacidade de operação de cada agência. Mensurado a quantidade do atendimento por local, são emitidas cartas com convocações e configuradas as agendas de atendimento nas unidade presenciais. O segurado é orientado para realizar o agendamento por meio do canal remoto Central 135. Iniciada a operação em 13/01/20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a 5" descr=""/>
          <p:cNvPicPr/>
          <p:nvPr/>
        </p:nvPicPr>
        <p:blipFill>
          <a:blip r:embed="rId3"/>
          <a:stretch/>
        </p:blipFill>
        <p:spPr>
          <a:xfrm>
            <a:off x="676440" y="853920"/>
            <a:ext cx="829152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9" descr=""/>
          <p:cNvPicPr/>
          <p:nvPr/>
        </p:nvPicPr>
        <p:blipFill>
          <a:blip r:embed="rId3"/>
          <a:stretch/>
        </p:blipFill>
        <p:spPr>
          <a:xfrm>
            <a:off x="247680" y="1295280"/>
            <a:ext cx="8648640" cy="47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23" name="Imagem 6" descr=""/>
          <p:cNvPicPr/>
          <p:nvPr/>
        </p:nvPicPr>
        <p:blipFill>
          <a:blip r:embed="rId3"/>
          <a:stretch/>
        </p:blipFill>
        <p:spPr>
          <a:xfrm>
            <a:off x="0" y="106200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6" descr=""/>
          <p:cNvPicPr/>
          <p:nvPr/>
        </p:nvPicPr>
        <p:blipFill>
          <a:blip r:embed="rId3"/>
          <a:stretch/>
        </p:blipFill>
        <p:spPr>
          <a:xfrm>
            <a:off x="0" y="106200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71640" y="2349360"/>
            <a:ext cx="720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69880" indent="-569880">
              <a:buClr>
                <a:srgbClr val="191966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MP nº 767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de 06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°09/MDSA/MF/MP</a:t>
            </a:r>
            <a:r>
              <a:rPr b="0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, de 13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Resolução nº 567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13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12/01/201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971640" y="1268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NOR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971640" y="2349360"/>
            <a:ext cx="7200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00000" y="2487600"/>
            <a:ext cx="72010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Obrigad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Leonardo de Melo Gadel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Presidente do IN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971640" y="2349360"/>
            <a:ext cx="72007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ata de publicação: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06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Escopo: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promover a revisão dos benefícios por incapacidade, de forma a averiguar-se a permanência da incapacidade laborativa dos beneficiários, com vistas a interrupção de possíveis pagamentos indevidos de benefícios conforme art. 59 da Lei nº 8.213/91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262160"/>
            <a:ext cx="8353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MEDIDA PROVISÓRIA Nº 767/2017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9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3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enefícios por incapacidade mantidos há mais de dois anos, sem realização de perícia médica no período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posentados por invalidez com idade inferior a 60 anos de idade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1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2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rioridades de convocação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. Auxílio-doença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. Aposentadoria por invalidez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everão ser convocados, prioritariamente, os beneficiários com menor idade e com benefícios mantidos há mais tem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9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3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As perícias de revisão serão realizadas por médicos peritos que aderirem ao programa, sem prejuízo ao atendimento da demanda ordinária do serviço médico-pericial das unidades do IN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Haverá pagamento de bônus ao médico perito referente à realização de cada perícia extraordiná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, de 12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Estabelece fluxo de revisão dos BILDs concedidos judici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Não será cabível alteração de datas técnicas decorrentes do processo judicial (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ata do início da incapacidade, da doença ou do benefício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O INSS poderá regulamentar a fixação de tais datas quando não constarem em seu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969840" y="217980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, de 12/01/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Nos casos em que ficar constatada a ausência da incapacidade laboral o benefício será cessado sem necessidade de manifestação prévia ou posterior do órgão de execução da PG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ei 8213/91: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ainda que concedidos judicialmente, os benefícios estão submetidos às regras de manutenção administrativas do IN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50880" y="2238480"/>
          <a:ext cx="7947000" cy="3389040"/>
        </p:xfrm>
        <a:graphic>
          <a:graphicData uri="http://schemas.openxmlformats.org/drawingml/2006/table">
            <a:tbl>
              <a:tblPr/>
              <a:tblGrid>
                <a:gridCol w="1800360"/>
                <a:gridCol w="1935000"/>
                <a:gridCol w="2046240"/>
                <a:gridCol w="2165400"/>
              </a:tblGrid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pécie do Benefício por Incapacida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de Benefícios mantidos há mais de 2 anos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 PERÍCIA   após 06/01/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 PERÍCIA após 06/01/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ílio Doenç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0.2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 ( - de 60 an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5.5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9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105.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06.1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1,0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87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 (+ de 60 an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83.8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s por Invalidez com mais de 60 anos de idade não serão convocado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G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989.6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36"/>
          <p:cNvSpPr/>
          <p:nvPr/>
        </p:nvSpPr>
        <p:spPr>
          <a:xfrm>
            <a:off x="647280" y="593424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Israel de Brito Silva - MPS</cp:lastModifiedBy>
  <cp:lastPrinted>2017-02-16T11:24:05Z</cp:lastPrinted>
  <dcterms:modified xsi:type="dcterms:W3CDTF">2017-02-16T11:43:08Z</dcterms:modified>
  <cp:revision>78</cp:revision>
  <dc:subject/>
  <dc:title>Slide 1</dc:title>
</cp:coreProperties>
</file>